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DC4C-0448-4AD2-94C9-6F5FD6CB0690}" type="slidenum">
              <a:rPr b="0" lang="el-G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CE47-8DF9-4305-A610-B9D467392A82}"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6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2626-0A4A-46B9-B15C-20D2D7A0E967}"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B61B-9AB7-422D-B088-4C212241AD11}"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6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2B0F-E88C-4BFE-8E74-1CEBE5941403}"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5FA2-45EA-4371-ADE7-26FDD197FE07}"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7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4EA5-68FC-4A7F-A59D-911EC0E5C624}"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750A-213D-4515-BBCF-4166F1695E7A}"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7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1A9C-26A9-44F1-9691-69D4936C3AD6}"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0ED9A-B332-4BD0-AA55-1D3C1CE06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B19B8-0A22-425B-BED0-E6892017B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5741A-42DF-4855-8564-2B18F6E83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A3F1A-7363-4DBA-9015-8809B550B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AA7BC-79FD-4CFB-8BD3-12F74D5FF6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ED1A7-6C4D-4287-94A3-812DB560A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C345D-3452-4708-9797-CA1C417D3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62EF5-BAD4-40DE-83F8-67E32D23C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6E720-40B5-4161-B0BC-4E98C9DE6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4299D-C34D-4515-8BA7-973181F34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CD0AB-7C79-45FB-9E19-116FB5A22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C44C8-CD61-48A8-9C58-1683025D5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7B266-2E1C-47D0-84F2-B919E1B8B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0D3E9-027F-45BF-B1B4-A2C359FB9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50920-AF9B-4459-950C-A21ECD8A9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BE188-51A7-4534-8E37-9B1C31FE8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8298F-A81F-48AA-8ADF-588BC9BCA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E3B8D-57D4-4FA0-BC2E-0A9D744D4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DCB3E-92E4-4712-85C5-FF1013C9A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753C1-44ED-44F8-B80F-525694B59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82D0D-FAFD-493C-B6D5-B2ED63D9C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05BB9-B1F1-48B4-8142-B1C8E91CD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2AF99-05A8-4941-994C-8593C3367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62C2D-1EC0-439E-B06E-F8778A699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E91F-5DF7-4241-96F9-A46DB83FAAE7}"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65BC-1755-4BCE-A2DF-71A8A9CF2DFE}" type="slidenum">
              <a:rPr b="0" lang="el-GR"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1752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l-GR" sz="2000" spc="-1" strike="noStrike">
                <a:solidFill>
                  <a:srgbClr val="ffff99"/>
                </a:solidFill>
                <a:latin typeface="Arial"/>
              </a:rPr>
              <a:t>«ΕΚΠΑΙΔΕΥΤΙΚΗ ΝΟΜΟΘΕΣΙΑ»</a:t>
            </a:r>
            <a:br>
              <a:rPr sz="2000"/>
            </a:br>
            <a:endParaRPr b="0" lang="en-US" sz="2000" spc="-1" strike="noStrike">
              <a:solidFill>
                <a:srgbClr val="ffff99"/>
              </a:solidFill>
              <a:latin typeface="Arial"/>
            </a:endParaRPr>
          </a:p>
        </p:txBody>
      </p:sp>
      <p:sp>
        <p:nvSpPr>
          <p:cNvPr id="168" name="PlaceHolder 2"/>
          <p:cNvSpPr>
            <a:spLocks noGrp="1"/>
          </p:cNvSpPr>
          <p:nvPr>
            <p:ph type="subTitle"/>
          </p:nvPr>
        </p:nvSpPr>
        <p:spPr>
          <a:xfrm>
            <a:off x="1371600" y="2895480"/>
            <a:ext cx="6400800" cy="18288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Verdana"/>
              </a:rPr>
              <a:t>Ι. ΦΡΑΓΚΟΥΛΗΣ</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Verdana"/>
              </a:rPr>
              <a:t>ΚΑΘΗΓΗΤΗΣ ΑΣΠΑΙΤΕ</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ΥΠΟΙ ΣΧΟΛΕΙΩΝ </a:t>
            </a:r>
            <a:br>
              <a:rPr sz="4400"/>
            </a:br>
            <a:r>
              <a:rPr b="0" lang="el-GR" sz="2400" spc="-1" strike="noStrike">
                <a:solidFill>
                  <a:srgbClr val="ffff99"/>
                </a:solidFill>
                <a:latin typeface="Arial"/>
              </a:rPr>
              <a:t>(Βάσει τοπικών αναγκών και ιδιαιτεροτήτων μαθητών) 1/2</a:t>
            </a:r>
            <a:endParaRPr b="0" lang="en-US" sz="2400" spc="-1" strike="noStrike">
              <a:solidFill>
                <a:srgbClr val="ffff99"/>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5050"/>
                </a:solidFill>
                <a:uFillTx/>
                <a:latin typeface="Verdana"/>
              </a:rPr>
              <a:t>1. Σχολεία Διαπολιτισμικής εκπαίδευση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r>
              <a:rPr b="0" lang="el-GR" sz="2800" spc="-1" strike="noStrike">
                <a:solidFill>
                  <a:srgbClr val="ffffff"/>
                </a:solidFill>
                <a:latin typeface="Verdana"/>
              </a:rPr>
              <a:t>(Ιδιαίτερες εκπαιδευτικές- κοινωνικές- πολιτιστικές ανάγκες μαθητών, παλιννοστούντες και αλλοδαποί 45%)</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ν.2413/1996 (σήμερα 13 δημ, 9 Γυμν, 4 Λύκεια)</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ποπτεία, οδηγίες, επιμόρφωση προσωπικού από ΙΕΠ</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τόχος- ισότητα ευκαιριών και ενσωμάτωση</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ύποι σχολείων 2/</a:t>
            </a:r>
            <a:r>
              <a:rPr b="0" lang="en-US" sz="4400" spc="-1" strike="noStrike">
                <a:solidFill>
                  <a:srgbClr val="ffff99"/>
                </a:solidFill>
                <a:latin typeface="Arial"/>
              </a:rPr>
              <a:t>3</a:t>
            </a:r>
            <a:endParaRPr b="0" lang="en-US" sz="4400" spc="-1" strike="noStrike">
              <a:solidFill>
                <a:srgbClr val="ffff99"/>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2. </a:t>
            </a:r>
            <a:r>
              <a:rPr b="0" lang="el-GR" sz="2400" spc="-1" strike="noStrike" u="sng">
                <a:solidFill>
                  <a:srgbClr val="ffffff"/>
                </a:solidFill>
                <a:uFillTx/>
                <a:latin typeface="Verdana"/>
              </a:rPr>
              <a:t>Μουσικά (37)</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ρόγραμμα συμβατικών σχολείων +μουσ.μαθήματα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οπτεία,οδηγίες,αξιολόγηση-5μελής καλλιτεχν.επιτροπή από ΥΠΕΠΘ</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ffff"/>
                </a:solidFill>
                <a:uFillTx/>
                <a:latin typeface="Verdana"/>
              </a:rPr>
              <a:t>3. Καλλιτεχνικά</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Ίδρυση το 2004 – 2 (Γέρακας+Ηράκλειο Κρήτης)</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γγραφή μαθητών με επιλογή από ειδ. Επιτροπή</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Κατευθύνσεις θεάτρου,κιν/φου, χορού, εικαστικών)</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ύποι σχολείων 3/3</a:t>
            </a:r>
            <a:endParaRPr b="0" lang="en-US" sz="4400" spc="-1" strike="noStrike">
              <a:solidFill>
                <a:srgbClr val="ffff99"/>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4</a:t>
            </a:r>
            <a:r>
              <a:rPr b="0" lang="el-GR" sz="2000" spc="-1" strike="noStrike" u="sng">
                <a:solidFill>
                  <a:srgbClr val="ffffff"/>
                </a:solidFill>
                <a:uFillTx/>
                <a:latin typeface="Verdana"/>
              </a:rPr>
              <a:t>. ΣΔΕ </a:t>
            </a:r>
            <a:r>
              <a:rPr b="0" lang="el-GR" sz="2000" spc="-1" strike="noStrike">
                <a:solidFill>
                  <a:srgbClr val="ffffff"/>
                </a:solidFill>
                <a:latin typeface="Verdana"/>
              </a:rPr>
              <a:t>(Δημοτικά,Γυμνάσια)</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Άρθρο 5 ν.2525/1997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Λειτουργούν από το 1999-2000</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Μαθητές - Όσοι  είναι άνω των 18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Προγράμματα ταχύρρυθμης εκπαίδευσης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εν υπάρχουν αυτόνομα μαθήματα, αλλά ενότητες μαθημάτων</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a:t>
            </a:r>
            <a:r>
              <a:rPr b="0" lang="en-US" sz="2000" spc="-1" strike="noStrike">
                <a:solidFill>
                  <a:srgbClr val="ffffff"/>
                </a:solidFill>
                <a:latin typeface="Verdana"/>
              </a:rPr>
              <a:t>modules)</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ffffff"/>
                </a:solidFill>
                <a:uFillTx/>
                <a:latin typeface="Verdana"/>
              </a:rPr>
              <a:t>5. Λοιπά </a:t>
            </a:r>
            <a:r>
              <a:rPr b="0" lang="el-GR" sz="2000" spc="-1" strike="noStrike">
                <a:solidFill>
                  <a:srgbClr val="ffffff"/>
                </a:solidFill>
                <a:latin typeface="Verdana"/>
              </a:rPr>
              <a:t>(εκκλησιαστικά, πειραματικά , μειονοτικά, ειδικής αγωγής, αθλητικά)</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ριτοβάθμια εκπαίδευση</a:t>
            </a:r>
            <a:endParaRPr b="0" lang="en-US" sz="4400" spc="-1" strike="noStrike">
              <a:solidFill>
                <a:srgbClr val="ffff99"/>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ροισχύον πλαίσιο (1268/1982 «για την ανώτατη εκπαίδευση» + 1404/1983 «νόμος ΤΕΙ»)</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Ν.2916/2001 «Διάρθρωση ανώτατης εκπαίδευσης και ρύθμιση θεμάτων τεχνολογικού τομέα»</a:t>
            </a:r>
            <a:endParaRPr b="0" lang="en-US" sz="28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Αρ.1- Δύο παράλληλοι τομείς ανωτ. εκπαίδευσης 1.Πανεπ.τομέας (πανεπιστήμια, Πολυτεχνεία και ΑΣΚΤ 2.Τεχνολ.τομέας </a:t>
            </a:r>
            <a:endParaRPr b="0" lang="en-US" sz="2400" spc="-1" strike="noStrike">
              <a:solidFill>
                <a:srgbClr val="ffffff"/>
              </a:solidFill>
              <a:latin typeface="Verdan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Τα ιδρύματα τριτοβάθμιας εκπαίδευσης είναι αυτοδιοικούμενα</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Μεταλυκειακή εκπαίδευση</a:t>
            </a:r>
            <a:endParaRPr b="0" lang="en-US" sz="4400" spc="-1" strike="noStrike">
              <a:solidFill>
                <a:srgbClr val="ffff99"/>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Ινστιτούτα επαγγελματικής κατάρτισης</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ημόσια ή ιδιωτικά – χορήγηση πιστοπ. επαγγελματικής κατάρτισης μετά πέρας σπουδών</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κοπός – Επαγγελματική κατάρτιση και διευκόλυνση επαγγελματικής ένταξης  (διδασκαλία επιστημονικών, τεχνικών και πρακτικών γνώσεων)</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ΔΙΑ ΒΙΟΥ ΕΚΠΑΙΔΕΥΣΗ</a:t>
            </a:r>
            <a:br>
              <a:rPr sz="4000"/>
            </a:br>
            <a:r>
              <a:rPr b="0" lang="el-GR" sz="4000" spc="-1" strike="noStrike">
                <a:solidFill>
                  <a:srgbClr val="ffff99"/>
                </a:solidFill>
                <a:latin typeface="Arial"/>
              </a:rPr>
              <a:t>Κέντρα Δια Βίου Μάθησης </a:t>
            </a:r>
            <a:endParaRPr b="0" lang="en-US" sz="4000" spc="-1" strike="noStrike">
              <a:solidFill>
                <a:srgbClr val="ffff99"/>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ffffff"/>
                </a:solidFill>
                <a:uFillTx/>
                <a:latin typeface="Verdana"/>
              </a:rPr>
              <a:t>ΚΕΔΙΒΙΜ με στόχο</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Ίσες ευκαιρίες εκπαίδευση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ρόσβαση στην αγορά εργασία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αγγελματική εξέλιξη</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ροσαρμογή σε ανταγωνιστικές συνθήκε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υμμετοχή σε κοινωνία γνώσης+ πληροφορία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Ιδιαίτερη αναβάθμιση εκπαίδευσης και εργασίας ευάλωτων ομάδων</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πχ φυλακισμένοι, Μετανάστες, Ανήλικοι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παραβάτες κτλ)</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ΔΟΜΗ ΥΠΕΠΘ</a:t>
            </a:r>
            <a:endParaRPr b="0" lang="en-US" sz="4400" spc="-1" strike="noStrike">
              <a:solidFill>
                <a:srgbClr val="ffff99"/>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Κεντρική Υπηρεσία</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Αποκεντρωμένες Υπηρεσίες</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ποπτευόμενοι φορείς</a:t>
            </a: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ffff"/>
                </a:solidFill>
                <a:uFillTx/>
                <a:latin typeface="Verdana"/>
              </a:rPr>
              <a:t>Γενικά συγκεντρωτική δομή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r>
              <a:rPr b="0" lang="el-GR" sz="2800" spc="-1" strike="noStrike">
                <a:solidFill>
                  <a:srgbClr val="ffffff"/>
                </a:solidFill>
                <a:latin typeface="Verdana"/>
              </a:rPr>
              <a:t>Κεντρική Υπηρεσία για διοίκηση και συντονισμό σε Α/θμια &amp; Β/θμια εκπαίδευση και επιχορήγηση και εποπτεία σε ΑΕΙ και ΤΕΙ, ακόμη και για ειδικά θέματα όπως</a:t>
            </a:r>
            <a:endParaRPr b="0" lang="en-US" sz="28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ωρολ.πρόγραμμα, διορισμοί-μισθοδοσία προσωπικού κτλ</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99"/>
                </a:solidFill>
                <a:latin typeface="Arial"/>
              </a:rPr>
              <a:t>ΟΡΓΑΝΙΚΕΣ ΜΟΝΑΔΕΣ ΤΗΣ ΚΕΝΤΡΙΚΗΣ ΥΠΗΡΕΣΙΑΣ ΤΟΥ ΥΠ.Ε.Π.Θ.</a:t>
            </a:r>
            <a:br>
              <a:rPr sz="1800"/>
            </a:br>
            <a:br>
              <a:rPr sz="1800"/>
            </a:br>
            <a:endParaRPr b="0" lang="en-US" sz="1800" spc="-1" strike="noStrike">
              <a:solidFill>
                <a:srgbClr val="ffff99"/>
              </a:solidFill>
              <a:latin typeface="Arial"/>
            </a:endParaRPr>
          </a:p>
        </p:txBody>
      </p:sp>
      <p:sp>
        <p:nvSpPr>
          <p:cNvPr id="200" name="PlaceHolder 2"/>
          <p:cNvSpPr>
            <a:spLocks noGrp="1"/>
          </p:cNvSpPr>
          <p:nvPr>
            <p:ph/>
          </p:nvPr>
        </p:nvSpPr>
        <p:spPr>
          <a:xfrm>
            <a:off x="380880" y="990360"/>
            <a:ext cx="8229600" cy="4530600"/>
          </a:xfrm>
          <a:prstGeom prst="rect">
            <a:avLst/>
          </a:prstGeom>
          <a:noFill/>
          <a:ln w="0">
            <a:noFill/>
          </a:ln>
        </p:spPr>
        <p:txBody>
          <a:bodyPr anchor="t">
            <a:normAutofit fontScale="86000"/>
          </a:bodyPr>
          <a:p>
            <a:pPr marL="294840" indent="-2948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ΕΝΙΑΙΟΣ ΔΙΟΙΚΗΤΙΚΟΣ ΤΟΜΕΑΣ ΠΑΝΕΠΙΣΤΗΜΙΑΚΗΣ</a:t>
            </a:r>
            <a:endParaRPr b="0" lang="en-US" sz="2000" spc="-1" strike="noStrike">
              <a:solidFill>
                <a:srgbClr val="ffffff"/>
              </a:solidFill>
              <a:latin typeface="Verdana"/>
            </a:endParaRPr>
          </a:p>
          <a:p>
            <a:pPr marL="294840" indent="-29484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 </a:t>
            </a:r>
            <a:r>
              <a:rPr b="1" lang="el-GR" sz="2000" spc="-1" strike="noStrike">
                <a:solidFill>
                  <a:srgbClr val="ff5050"/>
                </a:solidFill>
                <a:latin typeface="Verdana"/>
              </a:rPr>
              <a:t>ΕΚΠΑΙ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Μελετών, Στατιστικής και Οργάνωσης Ανώτατης Πανεπιστημια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σωπικού Ανώτατης Πανεπιστημια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πουδών και Φοιτητικής Μέριμνας Ανώτατης Πανεπιστημια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Μεταπτυχιακών Σπουδών και Έρευνας</a:t>
            </a:r>
            <a:endParaRPr b="0" lang="en-US" sz="2000" spc="-1" strike="noStrike">
              <a:solidFill>
                <a:srgbClr val="ffffff"/>
              </a:solidFill>
              <a:latin typeface="Verdana"/>
            </a:endParaRPr>
          </a:p>
          <a:p>
            <a:pPr marL="294840" indent="-29484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Ανώτατης Τεχνολογι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Ανεξάρτητο Τμήμα Διαπανεπιστημιακών Σχέσεων</a:t>
            </a:r>
            <a:endParaRPr b="0" lang="en-US" sz="2000" spc="-1" strike="noStrike">
              <a:solidFill>
                <a:srgbClr val="ffffff"/>
              </a:solidFill>
              <a:latin typeface="Verdana"/>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94840" indent="-29484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ΕΝΙΑΙΟΣ ΔΙΟΙΚΗΤΙΚΟΣ ΤΟΜΕΑΣ ΔΙΑΧΕΙΡΙΣΗΣ ΠΡΟΓΡΑΜΜΑΤΩΝ ΚΟΙΝΟΤΙΚΟΥ ΠΛΑΙΣΙΟΥ ΣΤΗΡΙΞΗΣ</a:t>
            </a:r>
            <a:endParaRPr b="0" lang="en-US" sz="2000" spc="-1" strike="noStrike">
              <a:solidFill>
                <a:srgbClr val="ffffff"/>
              </a:solidFill>
              <a:latin typeface="Verdana"/>
            </a:endParaRPr>
          </a:p>
          <a:p>
            <a:pPr marL="294840" indent="-29484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Ειδική Υπηρεσία Διαχείρισης ΕΠΕΑΕΚ</a:t>
            </a:r>
            <a:endParaRPr b="0" lang="en-US" sz="2000" spc="-1" strike="noStrike">
              <a:solidFill>
                <a:srgbClr val="ffffff"/>
              </a:solidFill>
              <a:latin typeface="Verdana"/>
            </a:endParaRPr>
          </a:p>
          <a:p>
            <a:pPr marL="294840" indent="-294840">
              <a:lnSpc>
                <a:spcPct val="9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ΕΙΔΙΚΗ ΥΠΗΡΕΣΙΑ ΕΦΑΡΜΟΓΗΣ ΠΡΟΓΡΑΜΜΑΤΩΝ ΚΠΣ </a:t>
            </a:r>
            <a:endParaRPr b="0" lang="en-US" sz="2000" spc="-1" strike="noStrike">
              <a:solidFill>
                <a:srgbClr val="ffffff"/>
              </a:solidFill>
              <a:latin typeface="Verdana"/>
            </a:endParaRPr>
          </a:p>
          <a:p>
            <a:pPr marL="294840" indent="-294840">
              <a:lnSpc>
                <a:spcPct val="9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Υπάγεται απευθείας στον Υπουργό του ΥΠΕΠΘ</a:t>
            </a:r>
            <a:endParaRPr b="0" lang="en-US" sz="2000" spc="-1" strike="noStrike">
              <a:solidFill>
                <a:srgbClr val="ffffff"/>
              </a:solidFill>
              <a:latin typeface="Verdana"/>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380880" y="380880"/>
            <a:ext cx="76964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5050"/>
                </a:solidFill>
                <a:latin typeface="Verdana"/>
              </a:rPr>
              <a:t>ΕΝΙΑΙΟΣ ΔΙΟΙΚΗΤΙΚΟΣ ΤΟΜΕΑΣ ΘΕΜΑΤΩΝ ΕΚΠΑΙΔΕΥΤΙΚΟΥ ΣΧΕΔΙΑΣΜΟΥ, ΕΚΠΑΙΔΕΥΣΗΣ ΕΛΛΗΝΟΠΑΙΔΩΝ  ΕΞΩΤΕΡΙΚΟΥ, ΔΙΑΠΟΛΙΤΙΣΜΙΚΗΣ ΕΚΠΑΙΔΕΥΣΗΣ &amp; ΑΠΟΚΕΝΤΡΩΣΗΣ ΤΟΥ ΥΠ.Ε.Π.Θ</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Παιδείας Ομογενών και Διαπολιτισμικής Εκπαίδευσης</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Ξένων και Μειονοτικών Σχολείων</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5050"/>
                </a:solidFill>
                <a:latin typeface="Verdana"/>
              </a:rPr>
              <a:t>ΕΝΙΑΙΟΣ  ΔΙΟΙΚΗΤΙΚΟΣ  ΤΟΜΕΑΣ  ΘΕΜΑΤΩΝ  ΕΠΟΠΤΙΚΩΝ ΜΕΣΩΝ  ΔΙΔΑΣΚΑΛΙΑΣ, ΕΚΠΑΙΔΕΥΤΙΚΗΣ ΡΑΔΙΟΤΗΛΕΟΡΑΣΗΣ, ΒΙΒΛΙΟΘΗΚΩΝ  ΚΑΙ  </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5050"/>
                </a:solidFill>
                <a:latin typeface="Verdana"/>
              </a:rPr>
              <a:t>ΙΣΤΟΡΙΚΩΝ ΑΡΧΕΙΩΝ  ΣΤΟ  ΥΠ.Ε.Π.Θ. </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Βιβλιοθηκών και Γενικών Αρχείων                                                               </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Εκπαιδευτικής  Ραδιοτηλεόρασης</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228600" y="762120"/>
            <a:ext cx="83818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ΕΝΙΑΙΟΣ  ΔΙΟΙΚΗΤΙΚΟΣ  ΤΟΜΕΑΣ  ΘΕΜΑΤΩΝ  ΣΠΟΥΔ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     </a:t>
            </a:r>
            <a:r>
              <a:rPr b="1" lang="el-GR" sz="2000" spc="-1" strike="noStrike">
                <a:solidFill>
                  <a:srgbClr val="ff5050"/>
                </a:solidFill>
                <a:latin typeface="Verdana"/>
              </a:rPr>
              <a:t>ΕΠΙΜΟΡΦΩΣΗΣ  ΚΑΙ  ΚΑΙΝΟΤΟΜΙ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πουδών Πρωτ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πουδών Δευτερ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υμβουλευτικού Επαγγελματικού Προσανατολισμού &amp; Επαγγελματικών Δραστηριοτή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1" lang="el-GR" sz="2000" spc="-1" strike="noStrike">
                <a:solidFill>
                  <a:srgbClr val="ff5050"/>
                </a:solidFill>
                <a:latin typeface="Verdana"/>
              </a:rPr>
              <a:t>ΔΙΟΙΚΗΤΙΚΟΣ  ΤΟΜΕΑΣ   ΤΕΧΝΟΛΟΓΙΚΟΥ ΤΟΜΕΑ ΑΝΩΤΑΤΗΣ  ΕΚΠΑΙ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Τεχνολογικού Τομέα Ανωτάτης Εκπαίδευσης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ΓΡΑΜΜΑΤΕΙΑ ΘΡΗΣΚΕΥΜΑ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ή Διεύθυνση Θρησκευμά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κκλησιαστικής Διοίκη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κκλησιαστικής Εκπαίδευσης και Θρησκευτικής Αγωγή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τεροδόξων και Ετεροθρήσκων</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99"/>
                </a:solidFill>
                <a:latin typeface="Arial"/>
              </a:rPr>
              <a:t>Σύμφωνα με το Σύνταγμα η εκπαίδευση αποτελεί βασική αποστολή του κράτους που στοχεύει στη:</a:t>
            </a:r>
            <a:endParaRPr b="0" lang="en-US" sz="2800" spc="-1" strike="noStrike">
              <a:solidFill>
                <a:srgbClr val="ffff99"/>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Ηθική</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ιανοητική</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παγγελματική</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Φυσική Αγωγή των Ελλήνων,</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νάπτυξη της εθνικής και θρησκευτικής συνειδητοποίησης</a:t>
            </a:r>
            <a:endParaRPr b="0" lang="en-US" sz="3200" spc="-1" strike="noStrike">
              <a:solidFill>
                <a:srgbClr val="ffffff"/>
              </a:solidFill>
              <a:latin typeface="Verdan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ημιουργία ελεύθερων πολιτώ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914400" y="1066680"/>
            <a:ext cx="76201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ΣΠΟΥΔΩΝ ΠΡΩΤΟΒΑΘΜΙΑΣ ΚΑΙ ΔΕΥΤΕΡΟΒΑΘΜΙΑΣ ΕΚΠΑΙ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Φυσικής Αγωγή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ιδικής Αγωγή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ΔΙΟΙΚΗΣΗΣ ΠΡΩΤΟΒΑΘΜΙΑΣ ΚΑΙ ΔΕΥΤΕΡΟΒΑΘΜΙΑΣ ΕΚΠΑΙ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σωπικού Πρωτ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σωπικού Δευτερ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Διοικητικών Υποθέσεων Πρωτοβάθμιας και Δευτερ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ΠΡΟΓΡΑΜΜΑΤΙΣΜΟΥ</a:t>
            </a:r>
            <a:r>
              <a:rPr b="1"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φαρμογής Εκπαιδευτικών Σχεδί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γραμματισμού και Επιχειρησιακών Ερευνώ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762120" y="1163520"/>
            <a:ext cx="7543800" cy="421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ΔΙΟΙΚΗΤΙΚΗΣ ΚΑΙ ΟΙΚΟΝΟΜΙΚΗΣ ΥΠΟΣΤΗΡΙΞ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Διοικητικού Κεντρικής Υπηρεσία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Οικονομικών Υποθέσε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Οργάνωσης και Απλούστευσης Διαδικασιώ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Λειτουργικής Ανάπτυξης Πληροφοριακών Συστημά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Λειτουργικών Υποδομών Πληροφορικής και Νέων Τεχνολογιώ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Διεύθυνση Ποιότητας &amp; Αποδοτικότητας</a:t>
            </a:r>
            <a:endParaRPr b="0" lang="en-US" sz="2000" spc="-1" strike="noStrike">
              <a:solidFill>
                <a:srgbClr val="ffffff"/>
              </a:solidFill>
              <a:latin typeface="Verdana"/>
            </a:endParaRPr>
          </a:p>
          <a:p>
            <a:pPr>
              <a:spcBef>
                <a:spcPts val="125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2895480" y="129528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5050"/>
                </a:solidFill>
                <a:latin typeface="Verdana"/>
              </a:rPr>
              <a:t>Ανεξάρτητα γραφεία</a:t>
            </a:r>
            <a:endParaRPr b="0" lang="en-US" sz="2800" spc="-1" strike="noStrike">
              <a:solidFill>
                <a:srgbClr val="ffffff"/>
              </a:solidFill>
              <a:latin typeface="Verdana"/>
            </a:endParaRPr>
          </a:p>
        </p:txBody>
      </p:sp>
      <p:sp>
        <p:nvSpPr>
          <p:cNvPr id="206" name="Rectangle 5"/>
          <p:cNvSpPr/>
          <p:nvPr/>
        </p:nvSpPr>
        <p:spPr>
          <a:xfrm>
            <a:off x="838080" y="2286000"/>
            <a:ext cx="7315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Επικοινωνίας &amp; Ενημέρωσης Πολιτών</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Τύπου και Δημοσίων Σχέσεων</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Κοινωνίας της Πληροφορίας</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Δικτυακής Εκπαιδευτικής Πύλη</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99"/>
                </a:solidFill>
                <a:latin typeface="Arial"/>
              </a:rPr>
              <a:t>Αποκεντρωμένες υπηρεσίες</a:t>
            </a:r>
            <a:br>
              <a:rPr sz="2800"/>
            </a:br>
            <a:r>
              <a:rPr b="0" lang="el-GR" sz="2800" spc="-1" strike="noStrike">
                <a:solidFill>
                  <a:srgbClr val="ffff99"/>
                </a:solidFill>
                <a:latin typeface="Arial"/>
              </a:rPr>
              <a:t>(διοίκηση και εποπτεία Α/θμιας +Β/θμιας Εκπαίδευσης)</a:t>
            </a:r>
            <a:endParaRPr b="0" lang="en-US" sz="2800" spc="-1" strike="noStrike">
              <a:solidFill>
                <a:srgbClr val="ffff99"/>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Ιεραρχικός έλεγχος σε επίπεδο</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1.</a:t>
            </a:r>
            <a:r>
              <a:rPr b="0" lang="el-GR" sz="2800" spc="-1" strike="noStrike" u="sng">
                <a:solidFill>
                  <a:srgbClr val="ffffff"/>
                </a:solidFill>
                <a:uFillTx/>
                <a:latin typeface="Verdana"/>
              </a:rPr>
              <a:t>Περιφέρειας</a:t>
            </a:r>
            <a:r>
              <a:rPr b="0" lang="el-GR" sz="2800" spc="-1" strike="noStrike">
                <a:solidFill>
                  <a:srgbClr val="ffffff"/>
                </a:solidFill>
                <a:latin typeface="Verdana"/>
              </a:rPr>
              <a:t> (Περιφ.Δ/νσεις)</a:t>
            </a:r>
            <a:endParaRPr b="0" lang="en-US" sz="2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2817/2000 σύσταση περιφ.Δ/νσεων εκτός</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ν.2986/2002 προσδιορισμός περιφ.υπηρεσιών ΥΠΕΠ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a:t>
            </a:r>
            <a:r>
              <a:rPr b="0" lang="el-GR" sz="2800" spc="-1" strike="noStrike" u="sng">
                <a:solidFill>
                  <a:srgbClr val="ffffff"/>
                </a:solidFill>
                <a:uFillTx/>
                <a:latin typeface="Verdana"/>
              </a:rPr>
              <a:t>Νομού</a:t>
            </a:r>
            <a:r>
              <a:rPr b="0" lang="el-GR" sz="2800" spc="-1" strike="noStrike">
                <a:solidFill>
                  <a:srgbClr val="ffffff"/>
                </a:solidFill>
                <a:latin typeface="Verdana"/>
              </a:rPr>
              <a:t> (Δ/νσεις εκπαίδευσης </a:t>
            </a:r>
            <a:r>
              <a:rPr b="0" lang="el-GR" sz="2400" spc="-1" strike="noStrike">
                <a:solidFill>
                  <a:srgbClr val="ffffff"/>
                </a:solidFill>
                <a:latin typeface="Verdana"/>
              </a:rPr>
              <a:t>ν.1304/198</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Κάλυψη διοικητικών αναγκών με αποσπασμένους εκπαιδευτικούς – αρ.9παρ 2 ν.2986/2002 κίνητρο</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με μόριο μετάθεσης ίσα με οργανικής θέσης)</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214200" y="0"/>
            <a:ext cx="87156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Εποπτευόμενοι φορείς</a:t>
            </a:r>
            <a:endParaRPr b="0" lang="en-US" sz="4400" spc="-1" strike="noStrike">
              <a:solidFill>
                <a:srgbClr val="ffff99"/>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ffff"/>
                </a:solidFill>
                <a:uFillTx/>
                <a:latin typeface="Verdana"/>
              </a:rPr>
              <a:t>Ινστιτούτο  Εκπαιδευτικής Πολιτικής</a:t>
            </a:r>
            <a:endParaRPr b="0" lang="en-US" sz="2800" spc="-1" strike="noStrike">
              <a:solidFill>
                <a:srgbClr val="ffffff"/>
              </a:solidFill>
              <a:latin typeface="Verdana"/>
            </a:endParaRPr>
          </a:p>
          <a:p>
            <a:pPr marL="325800" indent="-32580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1. Κατάρτιση και υποβολή προτάσεων για το σχεδιασμό και προγραμματισμό της εκπαιδευτικής πολιτικής.                                                                                                                    2. Κατάρτιση των Αναλυτικών Προγραμμάτων των μαθημάτων και των εργαστηριακών ασκήσεων στα σχολεία της Πρωτοβάθμιας και Δευτεροβάθμιας Εκπαίδευσης.                                                                                                                      3. Εισήγηση για την προκήρυξη και τη συγγραφή βιβλίων για τους μαθητές και εκπαιδευτικούς.                                                                                                                                            4. Εισηγήσεις για τη λήψη μέτρων για τη βελτίωση των μεθόδων διδασκαλίας.                                                                                                                                                                          5. Γνωμοδότηση σχετικά με το περιεχόμενο της επιμόρφωσης των εκπαιδευτικών.                                                                                                                                                                   6. Συνεργασία με Συμβούλους Εκπάιδευσης και παροχή βοήθειας στην άσκηση του έργου τους.                                                                                                                               </a:t>
            </a:r>
            <a:endParaRPr b="0" lang="en-US" sz="1800" spc="-1" strike="noStrike">
              <a:solidFill>
                <a:srgbClr val="ffffff"/>
              </a:solidFill>
              <a:latin typeface="Verdana"/>
            </a:endParaRPr>
          </a:p>
          <a:p>
            <a:pPr marL="325800" indent="-325800">
              <a:lnSpc>
                <a:spcPct val="90000"/>
              </a:lnSpc>
              <a:spcBef>
                <a:spcPts val="700"/>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7. Συμμετοχή στη διαδικασία αξιολόγησης του εκπαιδευτικού έργου</a:t>
            </a:r>
            <a:r>
              <a:rPr b="0" lang="el-GR" sz="2800" spc="-1" strike="noStrike">
                <a:solidFill>
                  <a:srgbClr val="ffffff"/>
                </a:solidFill>
                <a:latin typeface="Verdana"/>
              </a:rPr>
              <a:t>. </a:t>
            </a:r>
            <a:endParaRPr b="0" lang="en-US" sz="2800" spc="-1" strike="noStrike">
              <a:solidFill>
                <a:srgbClr val="ffffff"/>
              </a:solidFill>
              <a:latin typeface="Verdan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Άλλοι φορείς</a:t>
            </a:r>
            <a:endParaRPr b="0" lang="en-US" sz="4400" spc="-1" strike="noStrike">
              <a:solidFill>
                <a:srgbClr val="ffff99"/>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5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Οργανισμός Σχολικών Κτηρίων </a:t>
            </a:r>
            <a:endParaRPr b="0" lang="en-US" sz="2400" spc="-1" strike="noStrike">
              <a:solidFill>
                <a:srgbClr val="ffffff"/>
              </a:solidFill>
              <a:latin typeface="Verdana"/>
            </a:endParaRPr>
          </a:p>
          <a:p>
            <a:pPr marL="343080" indent="-343080">
              <a:lnSpc>
                <a:spcPct val="15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θνικό Ίδρυμα Νεότητας  (Φοιτητικές Εστίες)</a:t>
            </a:r>
            <a:endParaRPr b="0" lang="en-US" sz="2400" spc="-1" strike="noStrike">
              <a:solidFill>
                <a:srgbClr val="ffffff"/>
              </a:solidFill>
              <a:latin typeface="Verdana"/>
            </a:endParaRPr>
          </a:p>
          <a:p>
            <a:pPr marL="343080" indent="-343080">
              <a:lnSpc>
                <a:spcPct val="2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Ινστιτούτο Τεχνολογίας Υπολογιστών- Διόφαντος</a:t>
            </a:r>
            <a:endParaRPr b="0" lang="en-US" sz="2400" spc="-1" strike="noStrike">
              <a:solidFill>
                <a:srgbClr val="ffffff"/>
              </a:solidFill>
              <a:latin typeface="Verdana"/>
            </a:endParaRPr>
          </a:p>
          <a:p>
            <a:pPr marL="343080" indent="-343080">
              <a:lnSpc>
                <a:spcPct val="2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Ινστιτούτο Νεολαίας και Δια Βίου Μάθησης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Υπαλληλικός Κώδικας (ν.3528/2007)</a:t>
            </a:r>
            <a:endParaRPr b="0" lang="en-US" sz="4000" spc="-1" strike="noStrike">
              <a:solidFill>
                <a:srgbClr val="ffff99"/>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Θεσμικό πλαίσιο διαχείρισης ανθρώπινου δυναμικού δημόσιας διοίκησης</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τόχος – εκσυγχρονισμός λειτουργίας δημόσιας διοίκησης+αναβάθμιση ανθρώπινου δυναμικού</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ηγές – Νομολογία διοικητικό δίκαιο, διοικητική επιστήμη, ν.2683/99)</a:t>
            </a:r>
            <a:endParaRPr b="0" lang="en-US" sz="2800" spc="-1" strike="noStrike">
              <a:solidFill>
                <a:srgbClr val="ffffff"/>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Ρυθμιστικό πεδίο- Υπηρεσιακή κατάσταση ΜΟΝΙΜΩΝ υπαλλήλων δημοσίου (ΝΠΔΔ+Κράτους)</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99"/>
                </a:solidFill>
                <a:latin typeface="Arial"/>
              </a:rPr>
              <a:t>Ανθρώπινο δυναμικό Δημόσιας Διοίκησης</a:t>
            </a:r>
            <a:endParaRPr b="0" lang="en-US" sz="3200" spc="-1" strike="noStrike">
              <a:solidFill>
                <a:srgbClr val="ff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χέση εργασίας δημοσίου δικαίου</a:t>
            </a:r>
            <a:endParaRPr b="0" lang="en-US" sz="24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1800" spc="-1" strike="noStrike">
                <a:solidFill>
                  <a:srgbClr val="ffffff"/>
                </a:solidFill>
                <a:latin typeface="Verdana"/>
              </a:rPr>
              <a:t>   </a:t>
            </a:r>
            <a:r>
              <a:rPr b="0" lang="el-GR" sz="1800" spc="-1" strike="noStrike">
                <a:solidFill>
                  <a:srgbClr val="ffffff"/>
                </a:solidFill>
                <a:latin typeface="Verdana"/>
              </a:rPr>
              <a:t>1.Μόνιμοι (οργανικές θέσεις – λήξη με κατάργηση θέσης, δικαίωμα μετάταξης/προσφυγής)</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a:t>
            </a:r>
            <a:r>
              <a:rPr b="0" lang="el-GR" sz="1800" spc="-1" strike="noStrike">
                <a:solidFill>
                  <a:srgbClr val="ffffff"/>
                </a:solidFill>
                <a:latin typeface="Verdana"/>
              </a:rPr>
              <a:t>2.Επί θητεία (ορισμένος χρόνος –εξομοίωση με μόνιμους-αυτοδίκαιη παύση δημοσιοϋπαλληλικής ιδιότητας με λήξη θητείας)</a:t>
            </a:r>
            <a:endParaRPr b="0" lang="en-US" sz="18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χέση εργασίας ιδιωτικού δικαίου</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1. Αορίστου χρόνου (Ειδ.Επιστημ.Πρ/Ειδ.Τεχν.Πρ)</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2.Ορισμένου χρόνου (κάλυψη επειγουσών αναγκών διάρκειας 4μηνών ή εποχιακών διάρκειας  8μηνών ανά έτος)</a:t>
            </a:r>
            <a:endParaRPr b="0" lang="en-US" sz="24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a:t>
            </a:r>
            <a:r>
              <a:rPr b="0" lang="el-GR" sz="1800" spc="-1" strike="noStrike">
                <a:solidFill>
                  <a:srgbClr val="ffffff"/>
                </a:solidFill>
                <a:latin typeface="Verdana"/>
              </a:rPr>
              <a:t>ΔΥΠΑ</a:t>
            </a:r>
            <a:r>
              <a:rPr b="0" lang="en-US" sz="1800" spc="-1" strike="noStrike">
                <a:solidFill>
                  <a:srgbClr val="ffffff"/>
                </a:solidFill>
                <a:latin typeface="Verdana"/>
              </a:rPr>
              <a:t> – </a:t>
            </a:r>
            <a:r>
              <a:rPr b="0" lang="el-GR" sz="1800" spc="-1" strike="noStrike">
                <a:solidFill>
                  <a:srgbClr val="ffffff"/>
                </a:solidFill>
                <a:latin typeface="Verdana"/>
              </a:rPr>
              <a:t>επιδοτούμενο πρόγραμμα μέχρι 1έτος   με δυνατότητα ανανέωσης- παράτασης</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ροσλήψεις στο Δημόσιο</a:t>
            </a:r>
            <a:endParaRPr b="0" lang="en-US" sz="4400" spc="-1" strike="noStrike">
              <a:solidFill>
                <a:srgbClr val="ffff99"/>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Ν.2190/94 (αντικειμενικά κριτήρια αξιολόγησης-σύσταση ΑΣΕΠ)</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Ν.3051/2002</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1.Ενίσχυση ΑΣΕΠ (από το 2001 θεωρείται ως Ανεξάρτητη Διοικητική Αρχή+ ενισχύθηκε με ειδικό επιστημονικό προσωπικό)</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2.Ελεγ.μηχανισμοί ΑΣΕΠ (και επιβολή κυρώσεων)</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3. Βελτίωση διαδικασίας με</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α) κατάργηση  ανώτατου ορίου ηλικίας (συμμόρφωση με Οδηγία 2000/78/ΕΚ)</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Συνταγματικό πλαίσιο εκπαίδευσης</a:t>
            </a:r>
            <a:br>
              <a:rPr sz="4000"/>
            </a:br>
            <a:r>
              <a:rPr b="0" lang="el-GR" sz="4000" spc="-1" strike="noStrike">
                <a:solidFill>
                  <a:srgbClr val="ffff99"/>
                </a:solidFill>
                <a:latin typeface="Arial"/>
              </a:rPr>
              <a:t>Βασικές αρχές 1/2</a:t>
            </a:r>
            <a:endParaRPr b="0" lang="en-US" sz="4000" spc="-1" strike="noStrike">
              <a:solidFill>
                <a:srgbClr val="ffff99"/>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Παροχή γενικής εκπαίδευσης</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νάπτυξη ενδιαφερόντων μαθητών</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ξασφάλιση ίσων ευκαιριών μάθησης</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νίσχυση της πολιτιστικής και γλωσσικής ταυτότητας στο πλαίσιο μιας πολυπολιτισμικής κοινωνίας</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Υπαλληλική σχέση</a:t>
            </a:r>
            <a:endParaRPr b="0" lang="en-US" sz="4400" spc="-1" strike="noStrike">
              <a:solidFill>
                <a:srgbClr val="ffff99"/>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Ίδρυση</a:t>
            </a:r>
            <a:endParaRPr b="0" lang="en-US" sz="2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ορισμός και αποδοχή (δια ορκομωσίας)</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ορισμός/ ΦΕΚ/Κοινοποίηση σε ενδιαφερόμενο εντός 30 ημερών/εύλογη προθεσμία για ορκ.&lt;30 ημερών/ανάληψη</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Χρόνος έναρξης υπηρεσίας από ημερομηνία Δημοσίευσης ΦΕΚ</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Λήξη</a:t>
            </a:r>
            <a:endParaRPr b="0" lang="en-US" sz="2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Θάνατος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Αποδοχή παραίτησης</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Έκπτωση</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Απόλυση (ποινή οριστικής παύσης, κατάργηση  θέσης, συμπλήρωση ορίου ηλικίας/35ετίας, ακαταλληλότητας, σωματική ή πνευματική Ανεπάρκειας)</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Κατηγορίες – Κλάδοι- Ιεραρχία</a:t>
            </a:r>
            <a:endParaRPr b="0" lang="en-US" sz="4400" spc="-1" strike="noStrike">
              <a:solidFill>
                <a:srgbClr val="ff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Κατά τυπικά προσόντα (ΠΕ/ΤΕ/ΔΕ/ΥΕ)</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Κατά προαγωγική εξέλιξη (α/β/γ/δ/ε)</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Ε (από Ε σε Β) 22 έτη</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ΔΕ (από Δ σε Α) 19 έτη</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ΤΕ (από Δ σε Α) 15 έτη</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Ε (από Δ σε Α) 13 έτη</a:t>
            </a:r>
            <a:endParaRPr b="0" lang="en-US" sz="2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1" lang="el-GR" sz="2000" spc="-1" strike="noStrike" u="sng">
                <a:solidFill>
                  <a:srgbClr val="ffffff"/>
                </a:solidFill>
                <a:uFillTx/>
                <a:latin typeface="Verdana"/>
              </a:rPr>
              <a:t>Προαγωγή (χρόνος+ απόφαση υπηρεσιακού συμβουλίου)</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ΕΞΑΙΡΟΥΝΤΑΙ -Απόφοιτοι. ΕΣΔΔ και ΕΣΤΑ (απευθείας Β)</a:t>
            </a:r>
            <a:endParaRPr b="0" lang="en-US" sz="2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r>
              <a:rPr b="0" lang="el-GR" sz="2800" spc="-1" strike="noStrike">
                <a:solidFill>
                  <a:srgbClr val="ffffff"/>
                </a:solidFill>
                <a:latin typeface="Verdana"/>
              </a:rPr>
              <a:t>Κάτοχοι: ΜΔΕ</a:t>
            </a:r>
            <a:r>
              <a:rPr b="0" lang="el-GR" sz="2400" spc="-1" strike="noStrike">
                <a:solidFill>
                  <a:srgbClr val="ffffff"/>
                </a:solidFill>
                <a:latin typeface="Verdana"/>
              </a:rPr>
              <a:t>/ΔΙΔ. ΔΙΠΛΩΜΑΤΟΣ- Μείωση κατά 2 έτη</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Θέσεις ευθύνης - Προϊστάμενοι</a:t>
            </a:r>
            <a:endParaRPr b="0" lang="en-US" sz="4400" spc="-1" strike="noStrike">
              <a:solidFill>
                <a:srgbClr val="ffff99"/>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 συστήματα – ΚΙΝΗΤΗ (τριετία και επανάκριση) και ΠΑΓΙΑ ιεραρχία (προαγωγή)</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Ιεραρχία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1.Προιστ.Τμήματος (Α βαθμός)</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Προιστ. Δ/νσης (Α+1 έτος Πρ. τμήματος)</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3.Πρ.Γεν.Δνσης (ΠΕ+Α+20 έτη Πρ.Δνσης)</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πιλογή από Υπηρεσιακό Συμβούλιο στο οποίο συμμετέχουν -3προιστάμενοι +2αιρετοί εκπρόσωποι εργαζομένω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Κριτήρια Επιλογής Προϊσταμένων</a:t>
            </a:r>
            <a:endParaRPr b="0" lang="en-US" sz="4000" spc="-1" strike="noStrike">
              <a:solidFill>
                <a:srgbClr val="ffff99"/>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παγγελματικά τεχνικά προσόντα</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 </a:t>
            </a:r>
            <a:r>
              <a:rPr b="0" lang="el-GR" sz="3200" spc="-1" strike="noStrike">
                <a:solidFill>
                  <a:srgbClr val="ffffff"/>
                </a:solidFill>
                <a:latin typeface="Verdana"/>
              </a:rPr>
              <a:t>(τίτλοι σπουδών, ξένες γλώσσες,</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ποφοίτηση από Εθνικές Σχολές πχ. από Εθνικό Κέντρο Δημόσιας Διοίκησης)</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ργασιακή και Διοικητική εμπειρία</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Λοιπές ικανότητες και δεξιότητες (υπηρεσιακή αξιολόγηση- τυχόν λοιπές δραστηριότητες)</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29" name=""/>
          <p:cNvGraphicFramePr/>
          <p:nvPr/>
        </p:nvGraphicFramePr>
        <p:xfrm>
          <a:off x="214200" y="142920"/>
          <a:ext cx="8786880" cy="6429240"/>
        </p:xfrm>
        <a:graphic>
          <a:graphicData uri="http://schemas.openxmlformats.org/drawingml/2006/table">
            <a:tbl>
              <a:tblPr/>
              <a:tblGrid>
                <a:gridCol w="2197080"/>
                <a:gridCol w="2195640"/>
                <a:gridCol w="2197080"/>
                <a:gridCol w="2197080"/>
              </a:tblGrid>
              <a:tr h="533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ΚΡΙΤΗ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ΠΡΟΪΣΤΑΜΕΝΟΙ ΓΕΝΙΚΩΝ ΔΙΕΥΘΥΝΣΕΩ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ΠΡΟΪΣΤΑΜΕΝΟΙ  ΔΙΕΥΘΥΝΣΕΩ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ΠΡΟΪΣΤΑΜΕΝΟΙ ΤΜΗΜΑΤΟΣ ή ΑΥΤΟΤΕΛΟΥΣ ΓΡΑΦΕΙΟΥ</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5331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Α. ΕΠΑΓΓΕΛΜΑΤΙΚΑ – ΤΕΧΝΙΚΑ ΠΡΟΣΟΝΤ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ΒΑΘΜΟΣ/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ΒΑΘΜΟΣ/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ΒΑΘΜΟΣ    /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r>
              <a:tr h="6588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1. Βασικός τίτλος σπουδώ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30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 25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20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30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25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20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30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25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20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8780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2. Δεύτερος τίτλος σπουδών (εφόσον είναι της ίδιας εκπαιδευτικής βαθμίδας με το βασικό τίτλο σπουδώ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8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 6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4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8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6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4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8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6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4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6588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3. Διδακτορικό δίπλωμα σε γνωστικό αντικείμενο συναφές με το αντικείμενο της υπηρεσίας</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2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8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8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533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4.Διδακτορικό δίπλωμα σε άλλο γνωστικό αντικείμενο</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2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315800">
                <a:tc>
                  <a:txBody>
                    <a:bodyPr lIns="68760" rIns="68760" tIns="0" bIns="0" anchor="ctr">
                      <a:noAutofit/>
                    </a:bodyPr>
                    <a:p>
                      <a:pPr marL="88920" indent="-88920" algn="just">
                        <a:lnSpc>
                          <a:spcPct val="100000"/>
                        </a:lnSpc>
                        <a:tabLst>
                          <a:tab algn="l" pos="0"/>
                          <a:tab algn="ctr" pos="2743200"/>
                          <a:tab algn="r"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5. Μεταπτυχιακός τίτλος ετήσιας τουλάχιστον διάρκειας σε γνωστικό αντικείμενο συναφές με το αντικείμενο της υπηρεσί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2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65880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6. Μεταπτυχιακός τίτλος ετήσιας τουλάχιστον διάρκειας σε άλλο γνωστικό αντικείμενο</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65880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7. Άριστη γνώση μιας από τις γλώσσες των χωρών της Ευρωπαϊκής Ένωσης</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5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7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31" name=""/>
          <p:cNvGraphicFramePr/>
          <p:nvPr/>
        </p:nvGraphicFramePr>
        <p:xfrm>
          <a:off x="457200" y="214200"/>
          <a:ext cx="8229600" cy="6330960"/>
        </p:xfrm>
        <a:graphic>
          <a:graphicData uri="http://schemas.openxmlformats.org/drawingml/2006/table">
            <a:tbl>
              <a:tblPr/>
              <a:tblGrid>
                <a:gridCol w="2057400"/>
                <a:gridCol w="2057400"/>
                <a:gridCol w="2057400"/>
                <a:gridCol w="2057400"/>
              </a:tblGrid>
              <a:tr h="93672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Α.8. Πολύ καλή γνώση μιας από τις γλώσσες των χωρών της Ευρωπαϊκής Ένω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5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4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6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70344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9. Καλή γνώση μιας από τις γλώσσες των χωρών της Ευρωπαϊκής Ένω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4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5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r>
              <a:tr h="47448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0. Άριστη γνώση κάθε επιπλέον ξένης γλώσσ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5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4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6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70344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1. Πολύ καλή γνώση κάθε επιπλέον ξένης γλώσσ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4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5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17144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2. Επιτυχής αποφοίτηση από την Εθνική Σχολή Δημόσιας Διοίκησης</a:t>
                      </a:r>
                      <a:endParaRPr b="0" lang="en-US" sz="1200" spc="-1" strike="noStrike">
                        <a:solidFill>
                          <a:srgbClr val="ffffff"/>
                        </a:solidFill>
                        <a:latin typeface="Verdana"/>
                      </a:endParaRPr>
                    </a:p>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ή την Εθνική Σχολή Τοπικής Αυτοδιοίκη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12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10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1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93672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3. Αποφοίτηση από τη Σχολή Εθνικής Άμυνας ή τη Σχολή Εθνικής Ασφάλει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40472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4. </a:t>
                      </a:r>
                      <a:r>
                        <a:rPr b="0" lang="el-GR" sz="1200" spc="-1" strike="noStrike">
                          <a:solidFill>
                            <a:srgbClr val="663300"/>
                          </a:solidFill>
                          <a:latin typeface="Arial"/>
                          <a:ea typeface="바탕"/>
                        </a:rPr>
                        <a:t>Η πιστοποιημένη επιμόρφωση που παρέχεται από το ΕΚΔΔΑ ή από άλλες σχολές που αποδεικνύεται με αντίστοιχο πιστοποιητικό</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00 ΜΟΡΙΑ (ΑΝΑ ΗΜΕΡΑ ΕΠΙΜΟΡΦΩΣΗΣ 1 ΜΟΡΙΟ ΜΕ ΑΝΩΤΑΤΟ ΟΡΙΟ ΤΑ 10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80 ΜΟΡΙΑ (ΑΝΑ ΗΜΕΡΑ ΕΠΙΜΟΡΦΩΣΗΣ 1 ΜΟΡΙΟ ΜΕ ΑΝΩΤΑΤΟ ΟΡΙΟ ΤΑ 8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00 ΜΟΡΙΑ (ΑΝΑ ΗΜΕΡΑ ΕΠΙΜΟΡΦΩΣΗΣ 1 ΜΟΡΙΟ ΜΕ ΑΝΩΤΑΤΟ ΟΡΙΟ ΤΑ 10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33" name=""/>
          <p:cNvGraphicFramePr/>
          <p:nvPr/>
        </p:nvGraphicFramePr>
        <p:xfrm>
          <a:off x="457200" y="214200"/>
          <a:ext cx="8229600" cy="6356520"/>
        </p:xfrm>
        <a:graphic>
          <a:graphicData uri="http://schemas.openxmlformats.org/drawingml/2006/table">
            <a:tbl>
              <a:tblPr/>
              <a:tblGrid>
                <a:gridCol w="2057400"/>
                <a:gridCol w="2057400"/>
                <a:gridCol w="2057400"/>
                <a:gridCol w="2057400"/>
              </a:tblGrid>
              <a:tr h="10162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ΚΡΙΤΗ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ΓΕΝΙΚΩΝ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ΤΜΗΜΑΤΟΣ</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 </a:t>
                      </a:r>
                      <a:r>
                        <a:rPr b="1" lang="el-GR" sz="1200" spc="-1" strike="noStrike">
                          <a:solidFill>
                            <a:srgbClr val="ffffff"/>
                          </a:solidFill>
                          <a:latin typeface="Arial"/>
                          <a:ea typeface="Times New Roman"/>
                        </a:rPr>
                        <a:t>ή </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ΑΥΤΟΤΕΛΟΥΣ ΓΡΑΦΕΙΟΥ</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514080">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663300"/>
                          </a:solidFill>
                          <a:latin typeface="Arial"/>
                          <a:ea typeface="Times New Roman"/>
                        </a:rPr>
                        <a:t>Β. ΕΡΓΑΣΙΑΚΗ – ΔΙΟΙΚΗΤΙΚΗ ΕΜΠΕΙ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101628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1. Χρόνος υπηρεσί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600 ΜΟΡΙΑ ( ΓΙΑ ΚΑΘΕ ΕΤΟΣ ΥΠΗΡΕΣΙΑΣ 20 ΜΟΡΙΑ ΜΕ ΑΝΩΤΑΤΟ ΟΡΙΟ ΤΑ 30 ΕΤΗ)</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600 ΜΟΡΙΑ ( ΓΙΑ ΚΑΘΕ ΕΤΟΣ ΥΠΗΡΕΣΙΑΣ 20 ΜΟΡΙΑ ΜΕ ΑΝΩΤΑΤΟ ΟΡΙΟ ΤΑ 30 ΕΤΗ)</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450 ΜΟΡΙΑ ( ΓΙΑ ΚΑΘΕ ΕΤΟΣ ΥΠΗΡΕΣΙΑΣ 15 ΜΟΡΙΑ ΜΕ ΑΝΩΤΑΤΟ ΟΡΙΟ ΤΑ 30 ΕΤΗ)</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126972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2. Χρόνος υπηρεσίας σε θέση προϊσταμένου Γενικής Διεύθυν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350 ΜΟΡΙΑ ( ΓΙΑ ΚΑΘΕ ΣΥΜΠΛΗΡΩΜΕΝΟ ΜΗΝΑ 9,72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27008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 3. Χρόνος υπηρεσίας σε θέση προϊσταμένου Διεύθυν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250 ΜΟΡΙΑ ( ΓΙΑ ΚΑΘΕ ΣΥΜΠΛΗΡΩΜΕΝΟ ΜΗΝΑ 6,94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200 ΜΟΡΙΑ (ΓΙΑ ΚΑΘΕ ΣΥΜΠΛΗΡΩΜΕΝΟ ΜΗΝΑ 5,56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200 ΜΟΡΙΑ (ΓΙΑ ΚΑΘΕ ΣΥΜΠΛΗΡΩΜΕΝΟ ΜΗΝΑ 5,56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127008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4. Χρόνος υπηρεσίας σε θέση προϊσταμένου Τμήματος ή αυτοτελούς Γραφείου:</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25 ΜΟΡΙΑ ( ΓΙΑ ΚΑΘΕ ΣΥΜΠΛΗΡΩΜΕΝΟ ΜΗΝΑ 3,47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25 ΜΟΡΙΑ ( ΓΙΑ ΚΑΘΕ ΣΥΜΠΛΗΡΩΜΕΝΟ ΜΗΝΑ 3,47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35" name=""/>
          <p:cNvGraphicFramePr/>
          <p:nvPr/>
        </p:nvGraphicFramePr>
        <p:xfrm>
          <a:off x="428760" y="69840"/>
          <a:ext cx="8229600" cy="6707160"/>
        </p:xfrm>
        <a:graphic>
          <a:graphicData uri="http://schemas.openxmlformats.org/drawingml/2006/table">
            <a:tbl>
              <a:tblPr/>
              <a:tblGrid>
                <a:gridCol w="2057400"/>
                <a:gridCol w="2057400"/>
                <a:gridCol w="2057400"/>
                <a:gridCol w="2057400"/>
              </a:tblGrid>
              <a:tr h="855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ΚΡΙΤΗ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ΓΕΝΙΚΩΝ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ΤΜΗΜΑΤΟΣ ή ΑΥΤΟΤΕΛΟΥΣ ΓΡΑΦΕΙΟΥ</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182520">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663300"/>
                          </a:solidFill>
                          <a:latin typeface="Arial"/>
                          <a:ea typeface="Times New Roman"/>
                        </a:rPr>
                        <a:t>Γ. ΙΚΑΝΟΤΗΤΕΣ - ΔΕΞΙΟΤΗΤ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274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Γ.1.Υπηρεσιακή αξιολόγηση: Κριτήρια:</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Γνώση αντικειμένου υπηρεσίας</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Διοικητικές ικανότητες</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Ενδιαφέρον και δημιουργικότητα</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Υπηρεσιακές σχέσεις και συμπεριφορά</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Αποτελεσματικότητα</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Τα κριτήρια αξιολογούνται βάσει της βαθμολόγησής τους στις εκθέσεις αξιολόγησης της τελευταίας πενταετί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700 ΜΟΡΙΑ&lt;  </a:t>
                      </a:r>
                      <a:r>
                        <a:rPr b="0" i="1" lang="el-GR" sz="1200" spc="-1" strike="noStrike">
                          <a:solidFill>
                            <a:srgbClr val="663300"/>
                          </a:solidFill>
                          <a:latin typeface="Arial"/>
                          <a:ea typeface="Times New Roman"/>
                        </a:rPr>
                        <a:t>Μέσος όρος κριτηρίων επί συντελεστή βαρύτητας 14 για κάθε κριτήριο</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450 ΜΟΡΙΑ&lt;  </a:t>
                      </a:r>
                      <a:r>
                        <a:rPr b="0" i="1" lang="el-GR" sz="1200" spc="-1" strike="noStrike">
                          <a:solidFill>
                            <a:srgbClr val="663300"/>
                          </a:solidFill>
                          <a:latin typeface="Arial"/>
                          <a:ea typeface="Times New Roman"/>
                        </a:rPr>
                        <a:t>Μέσος όρος κριτηρίων επί συντελεστή βαρύτητας 9  για κάθε κριτήριο</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300 ΜΟΡΙΑ&lt;  </a:t>
                      </a:r>
                      <a:r>
                        <a:rPr b="0" i="1" lang="el-GR" sz="1200" spc="-1" strike="noStrike">
                          <a:solidFill>
                            <a:srgbClr val="663300"/>
                          </a:solidFill>
                          <a:latin typeface="Arial"/>
                          <a:ea typeface="Times New Roman"/>
                        </a:rPr>
                        <a:t>Μέσος όρος κριτηρίων επί συντελεστή βαρύτητας 6  για κάθε κριτήριο.</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2925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Γ.2. Ειδικές δραστηριότητες</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Συγγραφικές εργασίες, ανακοινώσεις–εισηγήσεις σε συνέδρια, ημερίδες κτλ συναφείς με αντικείμενο της υπηρεσίας ή της δημόσιας διοίκησης γενικότερα, εκπροσώπηση σε συμβούλια, επιτροπές ή ομάδες εργασίας τόσο στο εσωτερικό όσο και στο εξωτερικό, μέλη Δ.Σ., Πρόεδροι, Διοικητές και λοιπά όργανα διοίκησης νομικών προσώπων του δημόσιου τομέ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5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2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6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Μονιμότητα Δημοσίων Υπαλλήλων</a:t>
            </a:r>
            <a:endParaRPr b="0" lang="en-US" sz="4000" spc="-1" strike="noStrike">
              <a:solidFill>
                <a:srgbClr val="ff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2ετης δοκιμαστική υπηρεσία-  Αξιολόγηση για μονιμοποίηση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ΚΤΟΣ αν υπάρχει πειθαρχική ποινή/δυσμενής αξιολόγηση (από υπηρεσιακό συμβούλιο)</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Κατά απόφασης μη μονιμοποίησης γίνεται προσφυγή στο ΣτΕ</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99"/>
                </a:solidFill>
                <a:latin typeface="Arial"/>
              </a:rPr>
              <a:t>ΥΠΟΧΡΕΩΣΕΙΣ-ΔΙΚΑΙΩΜΑΤΑ-ΠΕΡΙΟΡΙΣΜΟΙ</a:t>
            </a:r>
            <a:endParaRPr b="0" lang="en-US" sz="3200" spc="-1" strike="noStrike">
              <a:solidFill>
                <a:srgbClr val="ffff99"/>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1.Πίστη στο Σύνταγμα</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2.Υπακοή σε διαταγές ιεραρχικά προϊσταμένων με δυνατότητα έγγραφης διατύπωσης (μέσω αναφοράς) εκτέλεσης εντολής ιεραρχικά ανώτερων</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3.Εχεμύθεια σε:(απόρρητα στοιχεία, προσωπικά δεδομένα)</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Συνταγματικό πλαίσιο εκπαίδευσης</a:t>
            </a:r>
            <a:br>
              <a:rPr sz="4000"/>
            </a:br>
            <a:r>
              <a:rPr b="0" lang="el-GR" sz="4000" spc="-1" strike="noStrike">
                <a:solidFill>
                  <a:srgbClr val="ffff99"/>
                </a:solidFill>
                <a:latin typeface="Arial"/>
              </a:rPr>
              <a:t>Βασικές αρχές 2/2</a:t>
            </a:r>
            <a:endParaRPr b="0" lang="en-US" sz="4000" spc="-1" strike="noStrike">
              <a:solidFill>
                <a:srgbClr val="ffff99"/>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υαισθητοποίηση για ανάγκη προστασίας φυσικού περιβάλλοντος</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υαισθητοποίηση σχετικά με ζητήματα των ανθρώπινων δικαιωμάτων</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ωρεάν παιδεία</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Επιμόρφωση Δημοσίων Υπαλλήλων</a:t>
            </a:r>
            <a:endParaRPr b="0" lang="en-US" sz="4000" spc="-1" strike="noStrike">
              <a:solidFill>
                <a:srgbClr val="ffff99"/>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Προϋποθέσεις</a:t>
            </a:r>
            <a:endParaRPr b="0" lang="en-US" sz="20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1)Σύμφωνη Γνώμη Υπηρεσιακού Συμβουλίου</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2.Πλήρης δοκιμαστική υπηρεσία (λοιπός χρόνος υπηρεσίας όχι &lt;4 ετών)</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ΧΡΟΝΟΣ: ΜΠΣ(3)/Διδ.Διατρ(4)- Σύνολο ως 5</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Αποδοχές- Προσαύξηση +20%</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40% αν σε άλλο νομό/ *2 αν στο εξωτερικό)</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ffff"/>
                </a:solidFill>
                <a:uFillTx/>
                <a:latin typeface="Verdana"/>
              </a:rPr>
              <a:t>Μικρής διάρκειας εκπαιδευτική άδεια</a:t>
            </a:r>
            <a:endParaRPr b="0" lang="en-US" sz="24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a:t>
            </a:r>
            <a:r>
              <a:rPr b="0" lang="el-GR" sz="1800" spc="-1" strike="noStrike">
                <a:solidFill>
                  <a:srgbClr val="ffffff"/>
                </a:solidFill>
                <a:latin typeface="Verdana"/>
              </a:rPr>
              <a:t>συμμετοχή σε συνέδρια, σεμινάρια, διαγωνισμούς</a:t>
            </a:r>
            <a:endParaRPr b="0" lang="en-US" sz="18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άδεια εξετάσεων για σπουδαστές/φοιτητές κάθε βαθμίδας 20 ημερών (για το έτος φοίτησης και μέχρι και τα επόμενα 2 εξάμηνα από τη λήξη του</a:t>
            </a:r>
            <a:r>
              <a:rPr b="0" lang="el-GR"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ειθαρχικό δίκαιο</a:t>
            </a:r>
            <a:endParaRPr b="0" lang="en-US" sz="4400" spc="-1" strike="noStrike">
              <a:solidFill>
                <a:srgbClr val="ffff99"/>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Σύνολο κανόνων ρύθμισης πειθαρχικής ευθύνης δημοσίων Υπαλλήλων</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Στόχοι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a:t>
            </a:r>
            <a:r>
              <a:rPr b="1" lang="el-GR" sz="2000" spc="-1" strike="noStrike">
                <a:solidFill>
                  <a:srgbClr val="ffffff"/>
                </a:solidFill>
                <a:latin typeface="Verdana"/>
              </a:rPr>
              <a:t>Διασφάλιση νόμιμης  λειτουργίας Διοίκησης</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Εύρυθμη λειτουργία υπηρεσιών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Εγγύηση στο διωκόμενο για ορθή απονομή δικαίου</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Σχέση με ποινικό δίκαιο</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Πειθαρχικό παράπτωμα (όχι αδίκημα)</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Κοινές αρχές (τεκμηρίωση</a:t>
            </a:r>
            <a:r>
              <a:rPr b="1" lang="en-US" sz="2000" spc="-1" strike="noStrike">
                <a:solidFill>
                  <a:srgbClr val="ffffff"/>
                </a:solidFill>
                <a:latin typeface="Verdana"/>
              </a:rPr>
              <a:t> </a:t>
            </a:r>
            <a:r>
              <a:rPr b="1" lang="el-GR" sz="2000" spc="-1" strike="noStrike">
                <a:solidFill>
                  <a:srgbClr val="ffffff"/>
                </a:solidFill>
                <a:latin typeface="Verdana"/>
              </a:rPr>
              <a:t>αθωότητας, δικαστικής σιωπής, αναδρομική ισχύς, ηπιότητα νόμου, ελαφρυντικά για επιμέτρηση ποινής, έμπρακτη μετάνοια, πραγματοποιηθείσα/νομική πλάνη )</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ειθαρχικό παράπτωμα</a:t>
            </a:r>
            <a:endParaRPr b="0" lang="en-US" sz="4400" spc="-1" strike="noStrike">
              <a:solidFill>
                <a:srgbClr val="ffff99"/>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αίτια παράβαση υπαλληλικού καθήκοντος, με πειθαρχική ευθύνη ατομική και υφιστάμενη όσο υφίσταται η υπαλληλική σχέση</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αίτια» –δόλος/αμέλεια</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αράβαση» – Πράξη/παράλειψη εντός/εκτός καθηκόντων</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αλληλικό Καθήκον» –προσδιορίζεται από Σύνταγμα, νόμους , κανονιστικές πράξεις, εγκυκλίους, Οδηγίες (σύμφωνα με Σύνταγμα και νόμους)</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αραπτώματα (ενδεικτικά) 1/2</a:t>
            </a:r>
            <a:endParaRPr b="0" lang="en-US" sz="4400" spc="-1" strike="noStrike">
              <a:solidFill>
                <a:srgbClr val="ffff99"/>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α) άρνηση αναγνώρισης του Συντάγματος και  έλλειψη αφοσίωσης στην Πατρίδα,</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β) παράβαση καθήκοντος κατά τον Ποινικό Κώδικα η άλλους ειδικούς ποινικούς νόμου, </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  αποδοχή υλικής έννοιας ή ανταλλάγματος από πρόσωπο του οποίου τις υποθέσεις χειρίζεται η πρόκειται να χειριστεί ο υπάλληλος κατά την άσκηση των καθηκόντων του,</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δ) χαρακτηριστικώς αναξιοπρεπής η ανάξια υπαλλήλου διαγωγή εντός και εκτός υπηρεσίας, </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 παραβίαση απορρήτων της υπηρεσίας </a:t>
            </a:r>
            <a:endParaRPr b="0" lang="en-US" sz="24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αραπτώματα 2/2</a:t>
            </a:r>
            <a:endParaRPr b="0" lang="en-US" sz="4400" spc="-1" strike="noStrike">
              <a:solidFill>
                <a:srgbClr val="ffff99"/>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στ) αδικαιολόγητη αποχή από την εκτέλεση των καθηκόντων </a:t>
            </a:r>
            <a:r>
              <a:rPr b="0" i="1" lang="el-GR" sz="2000" spc="-1" strike="noStrike">
                <a:solidFill>
                  <a:srgbClr val="ffffff"/>
                </a:solidFill>
                <a:latin typeface="Verdana"/>
              </a:rPr>
              <a:t>(22 εργάσιμες ημέρες συνεχώς)</a:t>
            </a:r>
            <a:r>
              <a:rPr b="0" lang="el-GR" sz="2000" spc="-1" strike="noStrike">
                <a:solidFill>
                  <a:srgbClr val="ffffff"/>
                </a:solidFill>
                <a:latin typeface="Verdana"/>
              </a:rPr>
              <a:t>, ή τριάντα (30) εργάσιμες ημέρες εντός ενός έτους, </a:t>
            </a: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ζ) άμεση η μέσω τρίτου προσώπου συμμετοχή σε δημοπρασία που ενεργεί η υπηρεσία όπου ανήκει, η επιτροπή στην οποία είναι μέλος, </a:t>
            </a: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η) η εξαιρετικώς σοβαρή απείθεια και </a:t>
            </a:r>
            <a:endParaRPr b="0" lang="en-US" sz="2000" spc="-1" strike="noStrike">
              <a:solidFill>
                <a:srgbClr val="ffffff"/>
              </a:solidFill>
              <a:latin typeface="Verdan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θ) η εμμονή σε άρνηση προσέλευσης σε υγειονομική επιτροπή (άρθρο 56 παρ. 8) </a:t>
            </a:r>
            <a:endParaRPr b="0" lang="en-US" sz="2000" spc="-1" strike="noStrike">
              <a:solidFill>
                <a:srgbClr val="ffffff"/>
              </a:solidFill>
              <a:latin typeface="Verdan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Ι) αν την προηγ.3ετία επιβλήθηκαν 3 πειθαρχικές ποινές (τουλάχιστον πρόστιμο αποδοχών 1 μήνα)</a:t>
            </a:r>
            <a:endParaRPr b="0" lang="en-US" sz="2000" spc="-1" strike="noStrike">
              <a:solidFill>
                <a:srgbClr val="ffffff"/>
              </a:solidFill>
              <a:latin typeface="Verdan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Ια) κατά το προηγούμενο  Έτος τιμωρήθηκε για το ίδιο παράπτωμα (τουλ’αχιστον πρόστιμο αποδοχών 1μήνα)</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οινές</a:t>
            </a:r>
            <a:endParaRPr b="0" lang="en-US" sz="4400" spc="-1" strike="noStrike">
              <a:solidFill>
                <a:srgbClr val="ff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Κλιμάκωση ποινών</a:t>
            </a:r>
            <a:endParaRPr b="0" lang="en-US" sz="32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α)  Επίπληξη.</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β)  Πρόστιμο μέχρι τις αποδοχές τριών (3) μηνών.</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  Στέρηση δικαιώματος για προαγωγή (1 ως 5 έτη).</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δ)  Υποβιβασμός κατά ένα βαθμό.</a:t>
            </a:r>
            <a:endParaRPr b="0" lang="en-US" sz="2400" spc="-1" strike="noStrike">
              <a:solidFill>
                <a:srgbClr val="ffffff"/>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  Προσωρινή παύση από 3 έως 6 μήνες με πλήρη στέρηση αποδοχών. </a:t>
            </a:r>
            <a:endParaRPr b="0" lang="en-US" sz="2400" spc="-1" strike="noStrike">
              <a:solidFill>
                <a:srgbClr val="ffffff"/>
              </a:solidFill>
              <a:latin typeface="Verdan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τ) Οριστική παύση</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ειθαρχικά όργανα</a:t>
            </a:r>
            <a:endParaRPr b="0" lang="en-US" sz="4400" spc="-1" strike="noStrike">
              <a:solidFill>
                <a:srgbClr val="ffff99"/>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ειθαρχικός Προιστάμενος (ιεραρχικά)</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1)Υπουργός/ΓερΓραμμΥπ/ΓΓΠεριφ/Προιστ. Γενικής Δ/νσης/Προϊστάμενος  Δ/νσης</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2) Διοικητικά Συμβούλια (για υπαλλ ΝΠΔΔ)</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3) 5μελές Υπηρεσιακό Συμβούλιο (μετά από</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αραπομπή από πειθαρχικό προϊστάμενο</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ένσταση κατά απόφασης πειθαρχικού προϊσταμένου</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4) Δευτεροβάθμιο ΥΣ για ενστάσεις κατά ΥΣ</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5) ΣτΕ (προσωρινή ή οριστική παύση/υποβιβασμός)  με δυνατότητα προσφυγής στο Διοικητικό Εφετείο</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ΔΙΑΔΙΚΑΣΙΑ </a:t>
            </a:r>
            <a:endParaRPr b="0" lang="en-US" sz="4400" spc="-1" strike="noStrike">
              <a:solidFill>
                <a:srgbClr val="ffff99"/>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ροκαταρκτική έρευνα</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ριν την άσκηση πειθαρχικής δίωξη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υλλογή και καταγραφή στοιχείων</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από Πειθαρχικό Προϊστάμενο με έκβαση</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1.Θέση στο αρχείο με αιτιολογημένη έκθεση</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Κλήση σε απολογία (όχι ΕΔΕ)</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3.Παραπομπή σε ανώτερο (Υ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Ένορκη Διοικητική Εξέταση</a:t>
            </a:r>
            <a:endParaRPr b="0" lang="en-US" sz="4400" spc="-1" strike="noStrike">
              <a:solidFill>
                <a:srgbClr val="ff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υλλογή στοιχείων</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όχι έναρξη πειθαρχικής δίωξη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ΜΟΝΟ από μόνιμο .υπάλληλο με  Ά βαθμό (ποτέ κατώτερο του εγκαλούμενου)</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οχρεωτικά Ανωμοτί εξέταση υπόπτου (προαιρ. Δικηγόρο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ΚΒΑΣΗ- Υποβολή αιτιολογημένης έκθεσης στον Πειθ.Προιστ(αρχείο/άσκ.πειθ.δίωξης)</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Άσκηση Πειθαρχικής Δίωξης</a:t>
            </a:r>
            <a:endParaRPr b="0" lang="en-US" sz="4400" spc="-1" strike="noStrike">
              <a:solidFill>
                <a:srgbClr val="ffff99"/>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ειθαρχική ανάκριση από Υπηρεσιακό Συμβούλιο </a:t>
            </a:r>
            <a:endParaRPr b="0" lang="en-US" sz="2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υποχρεωτικά πριν την απολογία του υπαλλήλου εκτός αν: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1.τα πραγματικά περιστατικά είναι αναμφισβήτητα</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2.Ομολογία υπαλλήλου</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3.Σύλληψη επ’ αυτοφώρω</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4.ΕΔΕ με επαρκή στοιχεία απόδειξης</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Κατηγορίες εκπαίδευσης</a:t>
            </a:r>
            <a:endParaRPr b="0" lang="en-US" sz="4400" spc="-1" strike="noStrike">
              <a:solidFill>
                <a:srgbClr val="ffff99"/>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Γενική Εκπαίδευση Α/ΘΜΙΑ &amp; Β/ΘΜΙΑ ( ν. 2525/1997)</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παγγελματική εκπαίδευση (ν.3475/2006)</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κκλησιαστική εκπαίδευση (ν.3432/2996)</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ιδική εκπαίδευση ατόμων με ειδικές ανάγκες (ν.2817/2000)</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ριτοβάθμια εκπαίδευση</a:t>
            </a:r>
            <a:endParaRPr b="0" lang="en-US" sz="4400" spc="-1" strike="noStrike">
              <a:solidFill>
                <a:srgbClr val="ffff99"/>
              </a:solidFill>
              <a:latin typeface="Arial"/>
            </a:endParaRPr>
          </a:p>
        </p:txBody>
      </p:sp>
      <p:sp>
        <p:nvSpPr>
          <p:cNvPr id="178" name="PlaceHolder 2"/>
          <p:cNvSpPr>
            <a:spLocks noGrp="1"/>
          </p:cNvSpPr>
          <p:nvPr>
            <p:ph/>
          </p:nvPr>
        </p:nvSpPr>
        <p:spPr>
          <a:xfrm>
            <a:off x="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Πανεπιστήμια Συμβατικά</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λληνικό Ανοικτό Πανεπιστήμιο</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ΣΠΑΙΤΕ</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τρατιωτικές Σχολές ( Αξιωματικών- Υπαξιωματικών)</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κκλησιαστικές Ακαδημίες</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ffff99"/>
              </a:solidFill>
              <a:latin typeface="Arial"/>
            </a:endParaRPr>
          </a:p>
        </p:txBody>
      </p:sp>
      <p:pic>
        <p:nvPicPr>
          <p:cNvPr id="180" name="Picture 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ρωτοβάθμια εκπαίδευση</a:t>
            </a:r>
            <a:endParaRPr b="0" lang="en-US" sz="4400" spc="-1" strike="noStrike">
              <a:solidFill>
                <a:srgbClr val="ffff99"/>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5-12 έτη</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Νηπιαγωγείο υποχρεωτικό</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ημοτικό </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υμβατικά/Ολοήμερα (εμπέδωση, νέα γνωστικά αντικείμενα, επιπρόσθετο διδακτικό υλικό, ελεύθερες διερευνητικές εργασίες)</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Δευτεροβάθμια εκπαίδευση</a:t>
            </a:r>
            <a:endParaRPr b="0" lang="en-US" sz="4400" spc="-1" strike="noStrike">
              <a:solidFill>
                <a:srgbClr val="ffff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12-18 έτη ηλικίας μαθητών</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υμνάσιο(3ετής φοίτηση) και Λύκειο (3ετής)</a:t>
            </a:r>
            <a:endParaRPr b="0" lang="en-US" sz="24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Υποχρεωτική φοίτηση (6 Δημ+3Γυμν,&lt;16)</a:t>
            </a:r>
            <a:endParaRPr b="0" lang="en-US" sz="2400" spc="-1" strike="noStrike">
              <a:solidFill>
                <a:srgbClr val="ffffff"/>
              </a:solidFill>
              <a:latin typeface="Verdan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Ημερήσια/εσπερινά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υμνάσια- δεκτοί εργαζόμ. μαθητές &gt;14)</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Λύκεια- τετραετούς φοίτησης)</a:t>
            </a:r>
            <a:endParaRPr b="0" lang="en-US" sz="2400" spc="-1" strike="noStrike">
              <a:solidFill>
                <a:srgbClr val="ffffff"/>
              </a:solidFill>
              <a:latin typeface="Verdan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Λύκεια: Γενικής κατεύθυνσης  (θεωρητική, θετική, τεχνική)</a:t>
            </a:r>
            <a:endParaRPr b="0" lang="en-US" sz="2400" spc="-1" strike="noStrike">
              <a:solidFill>
                <a:srgbClr val="ffffff"/>
              </a:solidFill>
              <a:latin typeface="Verdana"/>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ΑΓΓΕΛΜΑΤΙΚΑ  ΛΥΚΕΙΑ ( Απολυτήριο &amp; Πτυχίο)</a:t>
            </a:r>
            <a:endParaRPr b="0" lang="en-US" sz="2400" spc="-1" strike="noStrike">
              <a:solidFill>
                <a:srgbClr val="ffffff"/>
              </a:solidFill>
              <a:latin typeface="Verdana"/>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ΑΣ ( ΠΤΥΧΊΟ)</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Γεώργιος Φραγκούλης</cp:lastModifiedBy>
  <dcterms:modified xsi:type="dcterms:W3CDTF">2023-05-01T07:07:33Z</dcterms:modified>
  <cp:revision>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